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07D-07AA-4F60-BD8F-CFBF0B17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B55-59F3-4571-9DAF-0D59DAFA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DAD-43CA-4E5F-8040-388D37DF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C7E-2E3D-4D5D-AB51-8AB6974A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1FD-F97B-47D0-91D8-A186AF4E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D8A-94A1-484B-BD97-E07B015C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A87-83C0-4BA6-BC37-263C8009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788-5521-49AB-A9A0-8CC691AC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62E-BDAE-4CFA-AC3E-54D59928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3A3-3D83-404A-8B01-FFC185D6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330-6AEF-4772-8AC2-17A929C6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73E-85A2-4A6D-A4C3-5849EDFC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Straight Connector 9"/>
          <p:cNvCxnSpPr/>
          <p:nvPr/>
        </p:nvCxnSpPr>
        <p:spPr>
          <a:xfrm>
            <a:off x="0" y="1443600"/>
            <a:ext cx="9144360" cy="12600"/>
          </a:xfrm>
          <a:prstGeom prst="straightConnector1">
            <a:avLst/>
          </a:prstGeom>
          <a:ln w="50800">
            <a:solidFill>
              <a:srgbClr val="1f497d">
                <a:lumMod val="50000"/>
              </a:srgbClr>
            </a:solidFill>
            <a:round/>
          </a:ln>
        </p:spPr>
      </p:cxn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Κάντε κλικ για επεξεργασία του τίτλου</a:t>
            </a:r>
            <a:endParaRPr b="0" lang="el-G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Κάντε κλικ για να επεξεργαστείτε τα στυλ κειμένου του υποδείγματος</a:t>
            </a: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εύτερου επιπέδου</a:t>
            </a:r>
            <a:endParaRPr b="0" lang="el-GR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Τρίτου επιπέδου</a:t>
            </a:r>
            <a:endParaRPr b="0" lang="el-GR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Τέταρτου επιπέδου</a:t>
            </a:r>
            <a:endParaRPr b="0" lang="el-GR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Πέμπτου επιπέδου</a:t>
            </a:r>
            <a:endParaRPr b="0" lang="el-GR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l-G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A3759B-FFD9-4EE6-BF19-B26602068055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304920" y="2286000"/>
            <a:ext cx="8610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ια την έναρξη μιας καινούριας επιχειρηματικής δραστηριότητας (start-up) πιστεύεται ότι μια σειρά από παραμέτρους έχουν σημασία </a:t>
            </a:r>
            <a:r>
              <a:rPr b="1" i="1" lang="el-GR" sz="2400" spc="-1" strike="noStrike">
                <a:solidFill>
                  <a:srgbClr val="000000"/>
                </a:solidFill>
                <a:latin typeface="Calibri"/>
              </a:rPr>
              <a:t>για την επιτυχία της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. Στη συνέχεια παρατίθενται δέκα τέτοιες παράμετροι τις οποίες ζητάμε να τοποθετήσετε (να διατάξετε κατά τη γνώμη σας) </a:t>
            </a:r>
            <a:r>
              <a:rPr b="1" i="1" lang="el-GR" sz="2400" spc="-1" strike="noStrike">
                <a:solidFill>
                  <a:srgbClr val="000000"/>
                </a:solidFill>
                <a:latin typeface="Calibri"/>
              </a:rPr>
              <a:t>με σειρά σπουδαιότητας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 (πάνω το πιο σπουδαίο και κάτω το λιγότερο σπουδαί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Table 3"/>
          <p:cNvGraphicFramePr/>
          <p:nvPr/>
        </p:nvGraphicFramePr>
        <p:xfrm>
          <a:off x="217800" y="1447920"/>
          <a:ext cx="8610120" cy="4814640"/>
        </p:xfrm>
        <a:graphic>
          <a:graphicData uri="http://schemas.openxmlformats.org/drawingml/2006/table">
            <a:tbl>
              <a:tblPr/>
              <a:tblGrid>
                <a:gridCol w="714960"/>
                <a:gridCol w="7895160"/>
              </a:tblGrid>
              <a:tr h="22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l-GR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l-GR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Επιχειρηματική παράμετρ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5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Αρχικό κεφάλαιο - αρχική χρηματοδότ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Καινοτομία της επιχειρηματικής ιδέ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Σχετικές γνώσεις και σχεδιασμός (Επιχειρηματικό σχέδιο, Ανάλυση SWOT, Οικονομική ανάλυση, κ.ά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Ικανότητα επικοινωνίας, διαπροσωπικές σχέσεις, κοινωνικότ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Συμβουλές από ειδικούς (π.χ. σύμβουλοι επιχειρήσεων, μέντορες, λογιστές, σύμβουλοι σταδιοδρομίας, κ.ά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Επιρροή και υποστήριξη από την οικογένει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Έρευνα αγοράς, τάσεις της αγοράς, δυνατότητες που προσφέρει η αγορ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Εύρεση συνεταίρων ή συνεργατών ή συμπράξε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Ανοχή του φόβου πιθανής αποτυχίας - ανοχή της αβεβαιότη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Άλλος σημαντικός για εσάς παράγοντας (χωρίς να τον αναφέρετ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3744720" y="86400"/>
            <a:ext cx="1697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πάντ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able 5"/>
          <p:cNvGraphicFramePr/>
          <p:nvPr/>
        </p:nvGraphicFramePr>
        <p:xfrm>
          <a:off x="380880" y="609480"/>
          <a:ext cx="8534160" cy="741600"/>
        </p:xfrm>
        <a:graphic>
          <a:graphicData uri="http://schemas.openxmlformats.org/drawingml/2006/table">
            <a:tbl>
              <a:tblPr/>
              <a:tblGrid>
                <a:gridCol w="2133360"/>
                <a:gridCol w="1371600"/>
                <a:gridCol w="1981080"/>
                <a:gridCol w="30477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l-GR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Φύλ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l-GR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Ηλικ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l-GR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Εκπαιδευτης/τρι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mail </a:t>
                      </a:r>
                      <a:r>
                        <a:rPr b="1" lang="el-GR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επικοινωνί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Άρρεν/Θήλυ/Άλλ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ΝΑΙ/ΟΧ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46" name="TextBox 5"/>
          <p:cNvSpPr/>
          <p:nvPr/>
        </p:nvSpPr>
        <p:spPr>
          <a:xfrm>
            <a:off x="2385000" y="1905120"/>
            <a:ext cx="4306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Σπουδαιότητα παραμέτ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7776720" y="1684440"/>
            <a:ext cx="662760" cy="455400"/>
          </a:xfrm>
          <a:prstGeom prst="rect">
            <a:avLst/>
          </a:prstGeom>
          <a:noFill/>
          <a:ln w="25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Α/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Table 10"/>
          <p:cNvGraphicFramePr/>
          <p:nvPr/>
        </p:nvGraphicFramePr>
        <p:xfrm>
          <a:off x="1523880" y="2438280"/>
          <a:ext cx="6095520" cy="436392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l-GR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Σειρά σπουδαιότη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l-GR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Παράμετρ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(περισσότερο σημαντική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l-GR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 (λιγότερο σημαντική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Θέμα του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  <Words>211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06-02T01:48:19Z</dcterms:modified>
  <cp:revision>4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</vt:r8>
  </property>
</Properties>
</file>